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6C38-8D74-4CC3-ACCB-85BD211CB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A2A8-5CDD-4F2C-B935-B9F8A11BB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5FBB-27A1-431D-A5DF-5FD897EA2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D870-DB20-4D1A-AB1D-66C7E2858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66B0-7FBF-4FCF-BC0A-CB439A14C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E965-C3DD-46DB-A082-E3AEAFC46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i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00560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73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914520" y="6323400"/>
            <a:ext cx="179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97240" y="6323400"/>
            <a:ext cx="179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redit Counseling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700884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23:16Z</dcterms:modified>
  <cp:revision>33</cp:revision>
  <dc:subject/>
  <dc:title>lesson three</dc:title>
</cp:coreProperties>
</file>