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DE2E-9D63-44E1-A451-0957015D6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5DC3-6E65-442F-8AFC-B0B6C8496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2718-A7C2-44F6-8875-3CF2942DF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hre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ying a ho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uying a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1: determine home-ownership nee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housing should I buy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can I afford to spen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2: locate and evaluate a hom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re do I want to liv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spects of the home need improve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3: price the propert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an appropriate market pric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negotiation movement exist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4: obtain financ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down payment is availabl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re current mortgage rate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an I qualify for a mortgag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mortgage should I ge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5: close the purchase transac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the closing dat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funds and documents will be needed for the clos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s everything understood before the final sign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705528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qualifying for a mortgag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termine the estimated value of the home you would like to purcha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funds for a down payment from savings or through gifts or loans from family memb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duce other debts or improve your credit record, if necessar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e fees, services, and mortgage rates for different lend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pare the mortgage applica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mortgage acceptance will be based on your credit recor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of the mortgage for which you qualify will be influenced b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available for a down pay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706032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mortgag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xed-rate, fixed-payment mortgag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3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15- or 2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HA/VA fixed-rat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lloon” loan (3-10 year term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justable-rate, variable payment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justable-rate mortgage (AR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aduated-payment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owing-equity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ther financing method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ydow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ared-appreciation mortgage (SA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cond-mortgage (home equity loa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vers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financ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osing cos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t the real estate transaction settlement, commonly referred to as the “closing”, the following are some costs that are typically incurred by a person buying a hom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search fee ($10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insurance ($300-$2,0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torney fees ($200-$7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aisal fee ($300-$5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cording fees and transfer taxes ($5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 report ($25-$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ite inspection ($50-$1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der’s origination fee (1-3% of loan amoun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rves for home insurance and property taxes (amount vari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paid in advance (if applicabl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lling your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putting your home on the market, make any preparations that could increase appeal and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necessary repai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int exterior and interior are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pdate various features (such as new carpeting or plumbing fixtur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termine the selling price, based 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appraisal to estimate current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ocation, features, and age of the h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 and market demand in your are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e if you will do a "sale by owner"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vertise your home in various media (e.g., newspapers, Internet, flyer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 ready to meet and show your home to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use of the services of a lawyer and/or title company for the legal aspe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ider using the services of a real estate ag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view two or more agents to compare their services and experi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ct the agent to provide a marketing plan and to handle the financial and legal aspects of the sa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cate with the agent on a regular basis regarding the selling price and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7T22:38:05Z</dcterms:modified>
  <cp:revision>32</cp:revision>
  <dc:subject/>
  <dc:title>lesson three</dc:title>
</cp:coreProperties>
</file>