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9C46-88E2-4140-8F3B-9C5658761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DF85-88C4-4A18-804E-D391B9092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DEAF-DCEC-4B37-A7DC-757825C73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1875-7B10-4C8E-BD92-1E09364C5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48F3-FAA4-4FB6-BCBD-AE8893872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7400" y="6323400"/>
            <a:ext cx="181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19920" y="2133720"/>
            <a:ext cx="274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916-880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133720"/>
            <a:ext cx="2361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88-397-374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429000" y="2133720"/>
            <a:ext cx="17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685-11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57200" y="3581280"/>
            <a:ext cx="8001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53760" y="6323400"/>
            <a:ext cx="176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(including cellular phon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csimiles (fax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computer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atic Number Identification (AN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60600" y="6323400"/>
            <a:ext cx="17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92532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22800" y="6323400"/>
            <a:ext cx="180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2820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28920" y="6323400"/>
            <a:ext cx="179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921360" y="6323400"/>
            <a:ext cx="18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936120" y="6323400"/>
            <a:ext cx="178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which 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 from unlawful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government searches and seizure of their work product and 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Select “unsubscribe” link at the bottom of marketing emails and follow the instructions provi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Visit the Direct Marketing Association website at: practicalmoneyskills.com/c6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or contact them a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225 Reinekers Lane, Suite 3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lexandria, VA 223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+1 212.768.727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n order to opt out for five years or permanently through the national credit reporting agencies, call 1-888-5-OPT-OUT (1-888-567-8688) or go to practicalmoneyskills.com/c6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19920" y="632340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9T23:10:28Z</dcterms:modified>
  <cp:revision>54</cp:revision>
  <dc:subject/>
  <dc:title>lesson three</dc:title>
</cp:coreProperties>
</file>