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F7E1-73BF-43AA-A540-4F3B52C57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3ABD-4B68-44A2-86FA-BA8EF165E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B888-5126-4AC9-89CE-0E5041775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3264-A8D3-4E74-BFD9-D2A023905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EC69-DE9B-44F3-A897-177A56131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4357-841E-4BB6-B124-F30841526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eight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70646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768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 1/2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02972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703224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 Some of the most comm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061400" y="6323400"/>
            <a:ext cx="166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0581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 … at % interest … in 10 years you’ll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.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7544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4016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6576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28:34Z</dcterms:modified>
  <cp:revision>54</cp:revision>
  <dc:subject/>
  <dc:title>lesson three</dc:title>
</cp:coreProperties>
</file>